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499-79F3-48ED-89D5-F75764BE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4EE-551D-46FB-AF83-E5F9A8DD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2C0-95C3-4DB2-B113-D9987290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396-64DD-450C-8972-6B40A940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4713-DB80-4FF9-8B1E-F0D45302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E8A1-5E25-4107-8D73-E8B551E9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1E7D-A728-4CFC-9400-CC43ADBC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EA5-77ED-4C19-9A13-E03E8D57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9461-3EF0-4F07-85A6-ED0B996A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D919-0E3B-431E-AE6C-119E009C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7740-08E6-49DC-99D7-A435DCF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9C4-88D4-424C-95C4-0D7AE544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BEF4-23E5-4ACA-8C2C-709C6333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D5D0-DF78-4250-8FB1-EDDB086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5808-0299-4449-AAEE-BC6FE5D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6EB1-0F40-419B-AB6E-BEBAC3F1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8E25-0277-442D-933C-16405305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D850-32ED-4D83-B896-0005C9D5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EA39-1566-4649-BC59-D6FB8DF8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8A8D-88FF-4388-9389-96F62AA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E602-720A-44E9-8575-9DE4C0D5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9DA8-1A52-4FD7-AE4E-DBA664EE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BC4-9672-4C6E-82D2-46E1AA85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C4B5-ADA6-45B6-A218-7C297444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34D2-E3EA-4C06-9742-E5CF1113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533A-D5F7-4413-B93A-2ACAD9C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845E-ADFB-4C3A-A971-7DF43888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D1A4-9FF8-4414-AF12-E3327C17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DE5C-415A-443B-944E-23C943F9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B4A2-6AF0-4191-A530-D421A1F6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8F394-7D17-4BBE-9CDB-F0E34665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7F6B-0B5E-4629-8558-DA07D5F5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38A9-B4E9-4816-A202-57AFE86B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B6C-3EB0-4995-8755-CAFEF47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5A9F-8238-4E0B-81B0-79F90483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B809-23B7-43D8-BB4C-7110D88D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53E4-2D5D-48FF-B9BB-1F4A3680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3EC5-9842-49DB-A8AC-7BE9E82D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FDE0-E880-4EC4-BF19-4900F9D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37C7-B686-4444-8B4E-783CE1C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F5CE-39D9-4828-9AEA-DCE3ABBE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407F-3D0A-471C-9209-18AC3FC1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8A2B-1292-4DEA-891E-4B3DF5CA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644B-3859-49C5-BCF9-A8C89582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E1C-A62D-48F2-AC09-126509F2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2AF4-27AA-4415-9575-9102D3B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46BF-4389-4447-A400-E60AAF27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23AC-FD60-4C5E-9479-31B5A9DF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41244-10F6-46BC-BE8F-F9F248AC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1202-B853-47A7-9D1A-BFFA79E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238B6-F9EE-45C0-9152-7664D8D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8A28-51B3-4D50-A833-A1A9642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1FA57-CE8C-49C6-8B53-500DF92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41C95-5209-42B4-AADB-FA5C26F2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2F600-4AA9-466B-915A-AF6C9575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949-770B-444E-9DB0-1F900785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3A3E-E174-45FC-A7D6-3DD7AB5D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5AC-3B70-462B-B920-4B359C7D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DE3-F9F2-4835-8806-4EF8442F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6B6-AC75-4396-81F4-2593B67F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EF2A-E85C-4C7A-8EEC-51C942A460E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5211-E4F3-46B9-93D5-72F85DB5E90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1842-278C-4315-8030-6B5D81D9F65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527E-C109-4199-9891-4DA8FDEF89EE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AD6C-94E9-4CD7-8331-969292A65CD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racing Evolutionary Histo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peciation in Real tim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formation of Pangae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90972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tered habitats and triggered exti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58" name="Group 37"/>
          <p:cNvGrpSpPr/>
          <p:nvPr/>
        </p:nvGrpSpPr>
        <p:grpSpPr>
          <a:xfrm>
            <a:off x="2880000" y="1866960"/>
            <a:ext cx="3379680" cy="4627800"/>
            <a:chOff x="2880000" y="1866960"/>
            <a:chExt cx="3379680" cy="4627800"/>
          </a:xfrm>
        </p:grpSpPr>
        <p:sp>
          <p:nvSpPr>
            <p:cNvPr id="259" name="Text Box 4"/>
            <p:cNvSpPr/>
            <p:nvPr/>
          </p:nvSpPr>
          <p:spPr>
            <a:xfrm>
              <a:off x="2880000" y="6218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3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6" descr="_x001c_15_03bContinentalDrift_U.jpg                                   0050D02E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54320" y="1866960"/>
              <a:ext cx="2205360" cy="46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Line 8"/>
            <p:cNvSpPr/>
            <p:nvPr/>
          </p:nvSpPr>
          <p:spPr>
            <a:xfrm flipH="1">
              <a:off x="4057560" y="2406600"/>
              <a:ext cx="202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>
              <a:off x="3817440" y="22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0"/>
            <p:cNvSpPr/>
            <p:nvPr/>
          </p:nvSpPr>
          <p:spPr>
            <a:xfrm flipH="1">
              <a:off x="4057560" y="3328920"/>
              <a:ext cx="202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3732480" y="31860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2"/>
            <p:cNvSpPr/>
            <p:nvPr/>
          </p:nvSpPr>
          <p:spPr>
            <a:xfrm flipH="1">
              <a:off x="4470480" y="4211640"/>
              <a:ext cx="160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3648240" y="40784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 flipH="1">
              <a:off x="4053960" y="4211640"/>
              <a:ext cx="15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3679920" y="53625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 flipH="1">
              <a:off x="4086360" y="5516640"/>
              <a:ext cx="42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 flipH="1">
              <a:off x="5121000" y="5716440"/>
              <a:ext cx="95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8"/>
            <p:cNvSpPr/>
            <p:nvPr/>
          </p:nvSpPr>
          <p:spPr>
            <a:xfrm flipH="1">
              <a:off x="4456080" y="5716440"/>
              <a:ext cx="45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9"/>
            <p:cNvSpPr/>
            <p:nvPr/>
          </p:nvSpPr>
          <p:spPr>
            <a:xfrm rot="16200000">
              <a:off x="2570760" y="3988800"/>
              <a:ext cx="157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lions of years ag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0"/>
            <p:cNvSpPr/>
            <p:nvPr/>
          </p:nvSpPr>
          <p:spPr>
            <a:xfrm rot="16200000">
              <a:off x="3998520" y="5767200"/>
              <a:ext cx="76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1"/>
            <p:cNvSpPr/>
            <p:nvPr/>
          </p:nvSpPr>
          <p:spPr>
            <a:xfrm rot="16200000">
              <a:off x="4003560" y="44337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2"/>
            <p:cNvSpPr/>
            <p:nvPr/>
          </p:nvSpPr>
          <p:spPr>
            <a:xfrm rot="16200000">
              <a:off x="4006800" y="2720880"/>
              <a:ext cx="74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3"/>
            <p:cNvSpPr/>
            <p:nvPr/>
          </p:nvSpPr>
          <p:spPr>
            <a:xfrm rot="20553000">
              <a:off x="4555440" y="301608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4"/>
            <p:cNvSpPr/>
            <p:nvPr/>
          </p:nvSpPr>
          <p:spPr>
            <a:xfrm>
              <a:off x="5199120" y="301320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rasi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5"/>
            <p:cNvSpPr/>
            <p:nvPr/>
          </p:nvSpPr>
          <p:spPr>
            <a:xfrm>
              <a:off x="4896720" y="3151080"/>
              <a:ext cx="44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6"/>
            <p:cNvSpPr/>
            <p:nvPr/>
          </p:nvSpPr>
          <p:spPr>
            <a:xfrm>
              <a:off x="4598280" y="330516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uth 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7"/>
            <p:cNvSpPr/>
            <p:nvPr/>
          </p:nvSpPr>
          <p:spPr>
            <a:xfrm>
              <a:off x="5248800" y="33289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8"/>
            <p:cNvSpPr/>
            <p:nvPr/>
          </p:nvSpPr>
          <p:spPr>
            <a:xfrm>
              <a:off x="5009400" y="3565440"/>
              <a:ext cx="63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tarctic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9"/>
            <p:cNvSpPr/>
            <p:nvPr/>
          </p:nvSpPr>
          <p:spPr>
            <a:xfrm rot="20085600">
              <a:off x="5492160" y="3452400"/>
              <a:ext cx="57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0"/>
            <p:cNvSpPr/>
            <p:nvPr/>
          </p:nvSpPr>
          <p:spPr>
            <a:xfrm>
              <a:off x="5004720" y="3930480"/>
              <a:ext cx="57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si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1"/>
            <p:cNvSpPr/>
            <p:nvPr/>
          </p:nvSpPr>
          <p:spPr>
            <a:xfrm rot="1252200">
              <a:off x="4953600" y="4309920"/>
              <a:ext cx="67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ondwan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2"/>
            <p:cNvSpPr/>
            <p:nvPr/>
          </p:nvSpPr>
          <p:spPr>
            <a:xfrm rot="18811200">
              <a:off x="4754160" y="556704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ngae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eparation of the continen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ffected the distribution and diversification of organis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5" descr="_x001c_15_03cAfricanLungfish_UP.jpg                                   0050D02E_x0003_203                            BE61E8D3:"/>
          <p:cNvPicPr/>
          <p:nvPr/>
        </p:nvPicPr>
        <p:blipFill>
          <a:blip r:embed="rId1"/>
          <a:stretch/>
        </p:blipFill>
        <p:spPr>
          <a:xfrm>
            <a:off x="208080" y="2660760"/>
            <a:ext cx="4081320" cy="271764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6"/>
          <p:cNvGrpSpPr/>
          <p:nvPr/>
        </p:nvGrpSpPr>
        <p:grpSpPr>
          <a:xfrm>
            <a:off x="4344840" y="2309760"/>
            <a:ext cx="4557960" cy="3657600"/>
            <a:chOff x="4344840" y="2309760"/>
            <a:chExt cx="4557960" cy="3657600"/>
          </a:xfrm>
        </p:grpSpPr>
        <p:pic>
          <p:nvPicPr>
            <p:cNvPr id="289" name="Picture 7" descr="_x001b_15_03dLungfishDistrib_U.jpg                                    0050D02E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4344840" y="2309760"/>
              <a:ext cx="455796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8"/>
            <p:cNvSpPr/>
            <p:nvPr/>
          </p:nvSpPr>
          <p:spPr>
            <a:xfrm>
              <a:off x="4961880" y="316548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9"/>
            <p:cNvSpPr/>
            <p:nvPr/>
          </p:nvSpPr>
          <p:spPr>
            <a:xfrm>
              <a:off x="5474520" y="44766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th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6491160" y="345276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7412400" y="33177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2"/>
            <p:cNvSpPr/>
            <p:nvPr/>
          </p:nvSpPr>
          <p:spPr>
            <a:xfrm>
              <a:off x="6393600" y="395748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3"/>
            <p:cNvSpPr/>
            <p:nvPr/>
          </p:nvSpPr>
          <p:spPr>
            <a:xfrm>
              <a:off x="7876440" y="50706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4"/>
            <p:cNvSpPr/>
            <p:nvPr/>
          </p:nvSpPr>
          <p:spPr>
            <a:xfrm>
              <a:off x="6370200" y="5340240"/>
              <a:ext cx="122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Living lungfish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6370200" y="5580000"/>
              <a:ext cx="145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Fossilized lungfish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4"/>
          <p:cNvSpPr/>
          <p:nvPr/>
        </p:nvSpPr>
        <p:spPr>
          <a:xfrm>
            <a:off x="4351680" y="58420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358920" y="531180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4 Tectonic trauma imperils local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olcanoes and earthquakes result from plate tectonic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movements of Earth’s crustal 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02" name="Group 19"/>
          <p:cNvGrpSpPr/>
          <p:nvPr/>
        </p:nvGrpSpPr>
        <p:grpSpPr>
          <a:xfrm>
            <a:off x="753120" y="3451320"/>
            <a:ext cx="7600320" cy="3408480"/>
            <a:chOff x="753120" y="3451320"/>
            <a:chExt cx="7600320" cy="3408480"/>
          </a:xfrm>
        </p:grpSpPr>
        <p:grpSp>
          <p:nvGrpSpPr>
            <p:cNvPr id="303" name="Group 17"/>
            <p:cNvGrpSpPr/>
            <p:nvPr/>
          </p:nvGrpSpPr>
          <p:grpSpPr>
            <a:xfrm>
              <a:off x="753120" y="3635280"/>
              <a:ext cx="4531680" cy="3041640"/>
              <a:chOff x="753120" y="3635280"/>
              <a:chExt cx="4531680" cy="3041640"/>
            </a:xfrm>
          </p:grpSpPr>
          <p:pic>
            <p:nvPicPr>
              <p:cNvPr id="304" name="Picture 6" descr="_x001d_15_04aSanAndreasFault_CNL.jpg                                  0050D02E_x0003_203                            BE61E8D3:"/>
              <p:cNvPicPr/>
              <p:nvPr/>
            </p:nvPicPr>
            <p:blipFill>
              <a:blip r:embed="rId2"/>
              <a:stretch/>
            </p:blipFill>
            <p:spPr>
              <a:xfrm>
                <a:off x="852480" y="3678120"/>
                <a:ext cx="4432320" cy="299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Line 7"/>
              <p:cNvSpPr/>
              <p:nvPr/>
            </p:nvSpPr>
            <p:spPr>
              <a:xfrm flipV="1">
                <a:off x="1001520" y="3845880"/>
                <a:ext cx="330480" cy="66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8"/>
              <p:cNvSpPr/>
              <p:nvPr/>
            </p:nvSpPr>
            <p:spPr>
              <a:xfrm>
                <a:off x="1198080" y="3635280"/>
                <a:ext cx="1226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an Andreas Fault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9"/>
              <p:cNvSpPr/>
              <p:nvPr/>
            </p:nvSpPr>
            <p:spPr>
              <a:xfrm>
                <a:off x="1794600" y="4325760"/>
                <a:ext cx="71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merican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10"/>
              <p:cNvSpPr/>
              <p:nvPr/>
            </p:nvSpPr>
            <p:spPr>
              <a:xfrm>
                <a:off x="1166040" y="5024160"/>
                <a:ext cx="990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an Francisco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11"/>
              <p:cNvSpPr/>
              <p:nvPr/>
            </p:nvSpPr>
            <p:spPr>
              <a:xfrm>
                <a:off x="1299600" y="5202000"/>
                <a:ext cx="81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anta Cruz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12"/>
              <p:cNvSpPr/>
              <p:nvPr/>
            </p:nvSpPr>
            <p:spPr>
              <a:xfrm>
                <a:off x="1094760" y="5973480"/>
                <a:ext cx="87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13"/>
              <p:cNvSpPr/>
              <p:nvPr/>
            </p:nvSpPr>
            <p:spPr>
              <a:xfrm>
                <a:off x="753120" y="5295600"/>
                <a:ext cx="5526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cific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14"/>
              <p:cNvSpPr/>
              <p:nvPr/>
            </p:nvSpPr>
            <p:spPr>
              <a:xfrm>
                <a:off x="1474920" y="6225840"/>
                <a:ext cx="71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3" name="Picture 15" descr="_x0015_15_04bKrakatau_UP.jpg                                          0050D02E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5564160" y="3451320"/>
              <a:ext cx="278928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4"/>
            <p:cNvSpPr/>
            <p:nvPr/>
          </p:nvSpPr>
          <p:spPr>
            <a:xfrm>
              <a:off x="3907080" y="6583320"/>
              <a:ext cx="129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4A, 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04560" y="685800"/>
            <a:ext cx="786132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5 Mass extinctions were followed by diversification of life-for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ass extinction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ccurred at the end of the Permian and Cretaceous peri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04560" y="685800"/>
            <a:ext cx="78613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Cretaceous extinction, which included the dinosau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have been caused by an astero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7" name="Group 15"/>
          <p:cNvGrpSpPr/>
          <p:nvPr/>
        </p:nvGrpSpPr>
        <p:grpSpPr>
          <a:xfrm>
            <a:off x="901800" y="2289240"/>
            <a:ext cx="7480080" cy="4129200"/>
            <a:chOff x="901800" y="2289240"/>
            <a:chExt cx="7480080" cy="4129200"/>
          </a:xfrm>
        </p:grpSpPr>
        <p:sp>
          <p:nvSpPr>
            <p:cNvPr id="318" name="Text Box 4"/>
            <p:cNvSpPr/>
            <p:nvPr/>
          </p:nvSpPr>
          <p:spPr>
            <a:xfrm>
              <a:off x="4162320" y="61419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4"/>
            <p:cNvGrpSpPr/>
            <p:nvPr/>
          </p:nvGrpSpPr>
          <p:grpSpPr>
            <a:xfrm>
              <a:off x="901800" y="2289240"/>
              <a:ext cx="7480080" cy="3890880"/>
              <a:chOff x="901800" y="2289240"/>
              <a:chExt cx="7480080" cy="3890880"/>
            </a:xfrm>
          </p:grpSpPr>
          <p:pic>
            <p:nvPicPr>
              <p:cNvPr id="320" name="Picture 6" descr="_x001d_15_05ImpactHypothesis_CNL.jpg                                  0050D02E_x0003_203                            BE644015:"/>
              <p:cNvPicPr/>
              <p:nvPr/>
            </p:nvPicPr>
            <p:blipFill>
              <a:blip r:embed="rId1"/>
              <a:stretch/>
            </p:blipFill>
            <p:spPr>
              <a:xfrm>
                <a:off x="901800" y="2289240"/>
                <a:ext cx="7480080" cy="389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Text Box 7"/>
              <p:cNvSpPr/>
              <p:nvPr/>
            </p:nvSpPr>
            <p:spPr>
              <a:xfrm>
                <a:off x="1514880" y="318456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erica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8"/>
              <p:cNvSpPr/>
              <p:nvPr/>
            </p:nvSpPr>
            <p:spPr>
              <a:xfrm>
                <a:off x="2044080" y="3591000"/>
                <a:ext cx="62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icxulub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ater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9"/>
              <p:cNvSpPr/>
              <p:nvPr/>
            </p:nvSpPr>
            <p:spPr>
              <a:xfrm>
                <a:off x="1100160" y="3763800"/>
                <a:ext cx="62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ucatá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eninsula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0"/>
              <p:cNvSpPr/>
              <p:nvPr/>
            </p:nvSpPr>
            <p:spPr>
              <a:xfrm flipV="1">
                <a:off x="1614240" y="3758760"/>
                <a:ext cx="299520" cy="13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1"/>
              <p:cNvSpPr/>
              <p:nvPr/>
            </p:nvSpPr>
            <p:spPr>
              <a:xfrm flipV="1">
                <a:off x="1922040" y="3690360"/>
                <a:ext cx="182520" cy="39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2"/>
              <p:cNvSpPr/>
              <p:nvPr/>
            </p:nvSpPr>
            <p:spPr>
              <a:xfrm>
                <a:off x="3398400" y="4722840"/>
                <a:ext cx="0" cy="83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3"/>
              <p:cNvSpPr/>
              <p:nvPr/>
            </p:nvSpPr>
            <p:spPr>
              <a:xfrm>
                <a:off x="3045600" y="5572080"/>
                <a:ext cx="66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Yucatán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Peninsula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rebound in diversit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llows mass exti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02480" cy="1150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6 Phylogenies are based on homologies in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fossil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nd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living organis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hylogeny, the evolutionary </a:t>
            </a:r>
            <a:r>
              <a:rPr b="0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history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of a gro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based upon the fossils that are available to stud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based on identifying homologous (similarities due to a shared ancestor) and molecular sequences that provide evidence of common ancest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ly, organisms that share very similar morphologies or similar DNA sequences are likely to be closely relate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6"/>
          <p:cNvGrpSpPr/>
          <p:nvPr/>
        </p:nvGrpSpPr>
        <p:grpSpPr>
          <a:xfrm>
            <a:off x="1913040" y="2208240"/>
            <a:ext cx="5732280" cy="4283280"/>
            <a:chOff x="1913040" y="2208240"/>
            <a:chExt cx="5732280" cy="4283280"/>
          </a:xfrm>
        </p:grpSpPr>
        <p:pic>
          <p:nvPicPr>
            <p:cNvPr id="332" name="Picture 5" descr="_x001f_15_06AnalagousStructures_UP.jpg                                001D11AA_x0007_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1913040" y="2208240"/>
              <a:ext cx="573228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4"/>
            <p:cNvSpPr/>
            <p:nvPr/>
          </p:nvSpPr>
          <p:spPr>
            <a:xfrm>
              <a:off x="4251240" y="621504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Analogous similarit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 from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convergen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evolution in similar environ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Species from different evolutionary branches may come to resemble another if they live in very similar environments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0" y="2489040"/>
            <a:ext cx="2044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plants look similar (analogous) even though they are not closely rela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left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cotillo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lant that is grown in Baja Californi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right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lauidia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grows in the dessert of Madagasc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ystematic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volves the analytical study of diversity and phyloge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The evolutionary relationships between organisms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04920" y="685800"/>
            <a:ext cx="78739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7 Systematics connects classification with evolutionary his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nnaeus’ system was not based upon genealogy or evolutionary relationships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wo concepts of classification are still used today: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nomial nam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Two part Latinized name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ierarchica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axonomists assign a binomial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isting of a genus (first part of the nam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d  a species name (second part of the name), to each spec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genu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include a group of related spec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685440"/>
            <a:ext cx="78390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74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re Birds Really Dinosaurs with Feathers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id birds evolve from dinosaurs? Or did they evolve from of earlier group of reptiles that are more closely related to today’s crocs and alligators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olutionary biologis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71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Have been pondering this question for decad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6" descr="_x001c_15_UN296Archaeopteryx_UP.jpg                                   0050D02E_x0003_203                            BE82D9B5:"/>
          <p:cNvPicPr/>
          <p:nvPr/>
        </p:nvPicPr>
        <p:blipFill>
          <a:blip r:embed="rId1"/>
          <a:stretch/>
        </p:blipFill>
        <p:spPr>
          <a:xfrm>
            <a:off x="2949480" y="2841480"/>
            <a:ext cx="3230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genu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include a group of related spec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Felis  is the group in which a cat belong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920" y="685800"/>
            <a:ext cx="78105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enera are </a:t>
            </a:r>
            <a:r>
              <a:rPr b="0" i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grouped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into progressively larger categor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mily, order, class, phylum, kingdom, and dom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41" name="Group 46"/>
          <p:cNvGrpSpPr/>
          <p:nvPr/>
        </p:nvGrpSpPr>
        <p:grpSpPr>
          <a:xfrm>
            <a:off x="3056040" y="2413080"/>
            <a:ext cx="3943800" cy="3859200"/>
            <a:chOff x="3056040" y="2413080"/>
            <a:chExt cx="3943800" cy="3859200"/>
          </a:xfrm>
        </p:grpSpPr>
        <p:pic>
          <p:nvPicPr>
            <p:cNvPr id="342" name="Picture 6" descr="_x0016_15_07aTaxonomy_CNL.jpg                                         001D11AA_x0007_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3056040" y="2413080"/>
              <a:ext cx="365580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7"/>
            <p:cNvSpPr/>
            <p:nvPr/>
          </p:nvSpPr>
          <p:spPr>
            <a:xfrm>
              <a:off x="5891040" y="2635200"/>
              <a:ext cx="65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8"/>
            <p:cNvSpPr/>
            <p:nvPr/>
          </p:nvSpPr>
          <p:spPr>
            <a:xfrm>
              <a:off x="5673240" y="3130560"/>
              <a:ext cx="57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enu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9"/>
            <p:cNvSpPr/>
            <p:nvPr/>
          </p:nvSpPr>
          <p:spPr>
            <a:xfrm>
              <a:off x="5383080" y="360216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"/>
            <p:cNvSpPr/>
            <p:nvPr/>
          </p:nvSpPr>
          <p:spPr>
            <a:xfrm>
              <a:off x="5114880" y="40924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4854600" y="456732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2"/>
            <p:cNvSpPr/>
            <p:nvPr/>
          </p:nvSpPr>
          <p:spPr>
            <a:xfrm>
              <a:off x="4543560" y="50356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ylu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>
              <a:off x="4269240" y="5530680"/>
              <a:ext cx="73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ngdo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4"/>
            <p:cNvSpPr/>
            <p:nvPr/>
          </p:nvSpPr>
          <p:spPr>
            <a:xfrm>
              <a:off x="3970440" y="595800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5"/>
            <p:cNvSpPr/>
            <p:nvPr/>
          </p:nvSpPr>
          <p:spPr>
            <a:xfrm>
              <a:off x="5850000" y="2832120"/>
              <a:ext cx="16992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 flipH="1">
              <a:off x="6141960" y="2832120"/>
              <a:ext cx="40176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6021360" y="304632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8"/>
            <p:cNvSpPr/>
            <p:nvPr/>
          </p:nvSpPr>
          <p:spPr>
            <a:xfrm>
              <a:off x="5818320" y="36036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>
              <a:off x="5391000" y="401472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>
              <a:off x="5289480" y="447984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1"/>
            <p:cNvSpPr/>
            <p:nvPr/>
          </p:nvSpPr>
          <p:spPr>
            <a:xfrm>
              <a:off x="4894200" y="498168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2"/>
            <p:cNvSpPr/>
            <p:nvPr/>
          </p:nvSpPr>
          <p:spPr>
            <a:xfrm>
              <a:off x="4724280" y="54561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3"/>
            <p:cNvSpPr/>
            <p:nvPr/>
          </p:nvSpPr>
          <p:spPr>
            <a:xfrm>
              <a:off x="4570560" y="592596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5472000" y="3311640"/>
              <a:ext cx="34632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5"/>
            <p:cNvSpPr/>
            <p:nvPr/>
          </p:nvSpPr>
          <p:spPr>
            <a:xfrm flipH="1">
              <a:off x="5940000" y="3319560"/>
              <a:ext cx="4222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6"/>
            <p:cNvSpPr/>
            <p:nvPr/>
          </p:nvSpPr>
          <p:spPr>
            <a:xfrm flipV="1">
              <a:off x="5502240" y="3792600"/>
              <a:ext cx="66348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7"/>
            <p:cNvSpPr/>
            <p:nvPr/>
          </p:nvSpPr>
          <p:spPr>
            <a:xfrm>
              <a:off x="5095800" y="3794040"/>
              <a:ext cx="29232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8"/>
            <p:cNvSpPr/>
            <p:nvPr/>
          </p:nvSpPr>
          <p:spPr>
            <a:xfrm flipV="1">
              <a:off x="5400720" y="4276800"/>
              <a:ext cx="56520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9"/>
            <p:cNvSpPr/>
            <p:nvPr/>
          </p:nvSpPr>
          <p:spPr>
            <a:xfrm flipH="1" flipV="1">
              <a:off x="4711680" y="4271760"/>
              <a:ext cx="57960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0"/>
            <p:cNvSpPr/>
            <p:nvPr/>
          </p:nvSpPr>
          <p:spPr>
            <a:xfrm flipV="1">
              <a:off x="5000760" y="4752720"/>
              <a:ext cx="7966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1"/>
            <p:cNvSpPr/>
            <p:nvPr/>
          </p:nvSpPr>
          <p:spPr>
            <a:xfrm flipH="1" flipV="1">
              <a:off x="4375080" y="4752720"/>
              <a:ext cx="52560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 flipV="1">
              <a:off x="4846680" y="5233680"/>
              <a:ext cx="7570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 flipH="1" flipV="1">
              <a:off x="4020840" y="5238720"/>
              <a:ext cx="70812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 flipV="1">
              <a:off x="4686480" y="5713560"/>
              <a:ext cx="74916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5"/>
            <p:cNvSpPr/>
            <p:nvPr/>
          </p:nvSpPr>
          <p:spPr>
            <a:xfrm flipH="1" flipV="1">
              <a:off x="3645000" y="5713200"/>
              <a:ext cx="92376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6"/>
            <p:cNvSpPr/>
            <p:nvPr/>
          </p:nvSpPr>
          <p:spPr>
            <a:xfrm>
              <a:off x="6516000" y="2486160"/>
              <a:ext cx="483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Feli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atu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7"/>
            <p:cNvSpPr/>
            <p:nvPr/>
          </p:nvSpPr>
          <p:spPr>
            <a:xfrm>
              <a:off x="6352560" y="302724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Feli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38"/>
            <p:cNvSpPr/>
            <p:nvPr/>
          </p:nvSpPr>
          <p:spPr>
            <a:xfrm>
              <a:off x="6165000" y="352260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lida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39"/>
            <p:cNvSpPr/>
            <p:nvPr/>
          </p:nvSpPr>
          <p:spPr>
            <a:xfrm>
              <a:off x="5950440" y="3997440"/>
              <a:ext cx="72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nivor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40"/>
            <p:cNvSpPr/>
            <p:nvPr/>
          </p:nvSpPr>
          <p:spPr>
            <a:xfrm>
              <a:off x="5785920" y="446400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mmal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1"/>
            <p:cNvSpPr/>
            <p:nvPr/>
          </p:nvSpPr>
          <p:spPr>
            <a:xfrm>
              <a:off x="5579640" y="4956120"/>
              <a:ext cx="70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ordat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2"/>
            <p:cNvSpPr/>
            <p:nvPr/>
          </p:nvSpPr>
          <p:spPr>
            <a:xfrm>
              <a:off x="5421600" y="5423040"/>
              <a:ext cx="66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imal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43"/>
            <p:cNvSpPr/>
            <p:nvPr/>
          </p:nvSpPr>
          <p:spPr>
            <a:xfrm>
              <a:off x="5193720" y="585936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kary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4"/>
          <p:cNvSpPr/>
          <p:nvPr/>
        </p:nvSpPr>
        <p:spPr>
          <a:xfrm>
            <a:off x="4340520" y="62308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5"/>
          <p:cNvGrpSpPr/>
          <p:nvPr/>
        </p:nvGrpSpPr>
        <p:grpSpPr>
          <a:xfrm>
            <a:off x="3174840" y="2070000"/>
            <a:ext cx="4319640" cy="4403880"/>
            <a:chOff x="3174840" y="2070000"/>
            <a:chExt cx="4319640" cy="4403880"/>
          </a:xfrm>
        </p:grpSpPr>
        <p:grpSp>
          <p:nvGrpSpPr>
            <p:cNvPr id="382" name="Group 24"/>
            <p:cNvGrpSpPr/>
            <p:nvPr/>
          </p:nvGrpSpPr>
          <p:grpSpPr>
            <a:xfrm>
              <a:off x="3174840" y="2070000"/>
              <a:ext cx="4319640" cy="4241880"/>
              <a:chOff x="3174840" y="2070000"/>
              <a:chExt cx="4319640" cy="4241880"/>
            </a:xfrm>
          </p:grpSpPr>
          <p:pic>
            <p:nvPicPr>
              <p:cNvPr id="383" name="Picture 6" descr="_x001e_15_07bCarnivoraPhylogeny_U.jpg                                 001D11AA_x0007_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3174840" y="2070000"/>
                <a:ext cx="4319640" cy="424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Text Box 7"/>
              <p:cNvSpPr/>
              <p:nvPr/>
            </p:nvSpPr>
            <p:spPr>
              <a:xfrm>
                <a:off x="3289680" y="2408040"/>
                <a:ext cx="615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pecie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8"/>
              <p:cNvSpPr/>
              <p:nvPr/>
            </p:nvSpPr>
            <p:spPr>
              <a:xfrm>
                <a:off x="3907080" y="2212920"/>
                <a:ext cx="67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Fel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atu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domestic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t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9"/>
              <p:cNvSpPr/>
              <p:nvPr/>
            </p:nvSpPr>
            <p:spPr>
              <a:xfrm>
                <a:off x="4496040" y="2279520"/>
                <a:ext cx="936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ephit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ephit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striped skunk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0"/>
              <p:cNvSpPr/>
              <p:nvPr/>
            </p:nvSpPr>
            <p:spPr>
              <a:xfrm>
                <a:off x="5345280" y="2212920"/>
                <a:ext cx="71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Lut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lut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European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tter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1"/>
              <p:cNvSpPr/>
              <p:nvPr/>
            </p:nvSpPr>
            <p:spPr>
              <a:xfrm>
                <a:off x="5963760" y="2271600"/>
                <a:ext cx="9410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an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familiar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domestic dog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"/>
              <p:cNvSpPr/>
              <p:nvPr/>
            </p:nvSpPr>
            <p:spPr>
              <a:xfrm>
                <a:off x="6795360" y="2290680"/>
                <a:ext cx="47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an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lupu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wolf)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3"/>
              <p:cNvSpPr/>
              <p:nvPr/>
            </p:nvSpPr>
            <p:spPr>
              <a:xfrm>
                <a:off x="3312720" y="4357440"/>
                <a:ext cx="537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enu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4"/>
              <p:cNvSpPr/>
              <p:nvPr/>
            </p:nvSpPr>
            <p:spPr>
              <a:xfrm>
                <a:off x="3316680" y="4991040"/>
                <a:ext cx="54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amily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5"/>
              <p:cNvSpPr/>
              <p:nvPr/>
            </p:nvSpPr>
            <p:spPr>
              <a:xfrm>
                <a:off x="3338640" y="5780160"/>
                <a:ext cx="49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6"/>
              <p:cNvSpPr/>
              <p:nvPr/>
            </p:nvSpPr>
            <p:spPr>
              <a:xfrm>
                <a:off x="4029480" y="4351320"/>
                <a:ext cx="424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Fel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7"/>
              <p:cNvSpPr/>
              <p:nvPr/>
            </p:nvSpPr>
            <p:spPr>
              <a:xfrm>
                <a:off x="3965400" y="498312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elidae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8"/>
              <p:cNvSpPr/>
              <p:nvPr/>
            </p:nvSpPr>
            <p:spPr>
              <a:xfrm>
                <a:off x="4938840" y="5771880"/>
                <a:ext cx="678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rnivo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9"/>
              <p:cNvSpPr/>
              <p:nvPr/>
            </p:nvSpPr>
            <p:spPr>
              <a:xfrm>
                <a:off x="4913280" y="4989240"/>
                <a:ext cx="736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ustelidae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20"/>
              <p:cNvSpPr/>
              <p:nvPr/>
            </p:nvSpPr>
            <p:spPr>
              <a:xfrm>
                <a:off x="4630680" y="4349520"/>
                <a:ext cx="60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ephit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21"/>
              <p:cNvSpPr/>
              <p:nvPr/>
            </p:nvSpPr>
            <p:spPr>
              <a:xfrm>
                <a:off x="5387040" y="434808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Lut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2"/>
              <p:cNvSpPr/>
              <p:nvPr/>
            </p:nvSpPr>
            <p:spPr>
              <a:xfrm>
                <a:off x="6455520" y="4349520"/>
                <a:ext cx="47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ani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23"/>
              <p:cNvSpPr/>
              <p:nvPr/>
            </p:nvSpPr>
            <p:spPr>
              <a:xfrm>
                <a:off x="6413760" y="4981320"/>
                <a:ext cx="60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nidae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4"/>
            <p:cNvSpPr/>
            <p:nvPr/>
          </p:nvSpPr>
          <p:spPr>
            <a:xfrm>
              <a:off x="4735800" y="61974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7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304560" y="685440"/>
            <a:ext cx="7823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phylogenetic tre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a hypothesi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evolutionary relationship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se branching diagrams reflect the hierarchical classification of groups nested within more inclusive group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TextBox 23"/>
          <p:cNvSpPr/>
          <p:nvPr/>
        </p:nvSpPr>
        <p:spPr>
          <a:xfrm>
            <a:off x="254160" y="3073320"/>
            <a:ext cx="2984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ighest, or most inclusive taxon is at the botto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branch represents the divergence of two lineages from a common ances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ing figure 15.7A How much of the classification do we share with the domestic ca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685440"/>
            <a:ext cx="79120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8 Cladograms are diagrams based on shared characters among spec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ladistics uses shared derived characte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define monophyletic tax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ntifying ‘clades’ provides branching patterns of evolu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2440080" y="3036960"/>
            <a:ext cx="4292640" cy="3483000"/>
            <a:chOff x="2440080" y="3036960"/>
            <a:chExt cx="4292640" cy="3483000"/>
          </a:xfrm>
        </p:grpSpPr>
        <p:pic>
          <p:nvPicPr>
            <p:cNvPr id="408" name="Picture 7" descr="_x0015_15_08aCladogram_U.jpg                                          001D11AA_x0007_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2440080" y="3438360"/>
              <a:ext cx="42926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AutoShape 8"/>
            <p:cNvSpPr/>
            <p:nvPr/>
          </p:nvSpPr>
          <p:spPr>
            <a:xfrm flipV="1" rot="16200000">
              <a:off x="4476240" y="2301840"/>
              <a:ext cx="60480" cy="2314440"/>
            </a:xfrm>
            <a:custGeom>
              <a:avLst/>
              <a:gdLst>
                <a:gd name="textAreaLeft" fmla="*/ 0 w 60480"/>
                <a:gd name="textAreaRight" fmla="*/ 21960 w 60480"/>
                <a:gd name="textAreaTop" fmla="*/ 60120 h 2314440"/>
                <a:gd name="textAreaBottom" fmla="*/ 225432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3504240" y="303696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x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4176720" y="3095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rou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Mammals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76520" y="31748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grou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Reptiles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2612520" y="395604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astern box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3377520" y="394812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uck-bille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typu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4"/>
            <p:cNvSpPr/>
            <p:nvPr/>
          </p:nvSpPr>
          <p:spPr>
            <a:xfrm>
              <a:off x="4075920" y="3956040"/>
              <a:ext cx="90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d kangaro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5"/>
            <p:cNvSpPr/>
            <p:nvPr/>
          </p:nvSpPr>
          <p:spPr>
            <a:xfrm>
              <a:off x="4824360" y="395604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 America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ave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6"/>
            <p:cNvSpPr/>
            <p:nvPr/>
          </p:nvSpPr>
          <p:spPr>
            <a:xfrm>
              <a:off x="5758560" y="3963960"/>
              <a:ext cx="77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7"/>
            <p:cNvSpPr/>
            <p:nvPr/>
          </p:nvSpPr>
          <p:spPr>
            <a:xfrm>
              <a:off x="5513400" y="4316400"/>
              <a:ext cx="93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ng 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8"/>
            <p:cNvSpPr/>
            <p:nvPr/>
          </p:nvSpPr>
          <p:spPr>
            <a:xfrm>
              <a:off x="5668920" y="450864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9"/>
            <p:cNvSpPr/>
            <p:nvPr/>
          </p:nvSpPr>
          <p:spPr>
            <a:xfrm>
              <a:off x="5292360" y="4692600"/>
              <a:ext cx="133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ir, mammary gland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0"/>
            <p:cNvSpPr/>
            <p:nvPr/>
          </p:nvSpPr>
          <p:spPr>
            <a:xfrm>
              <a:off x="4991040" y="5108400"/>
              <a:ext cx="93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ng 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1"/>
            <p:cNvSpPr/>
            <p:nvPr/>
          </p:nvSpPr>
          <p:spPr>
            <a:xfrm>
              <a:off x="4497480" y="542304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97080" y="5729400"/>
              <a:ext cx="133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ir, mammary gland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3"/>
            <p:cNvSpPr/>
            <p:nvPr/>
          </p:nvSpPr>
          <p:spPr>
            <a:xfrm>
              <a:off x="3491640" y="607536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4"/>
            <p:cNvSpPr/>
            <p:nvPr/>
          </p:nvSpPr>
          <p:spPr>
            <a:xfrm>
              <a:off x="5412600" y="488484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"/>
            <p:cNvSpPr/>
            <p:nvPr/>
          </p:nvSpPr>
          <p:spPr>
            <a:xfrm>
              <a:off x="4111920" y="62434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8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5"/>
            <p:cNvSpPr/>
            <p:nvPr/>
          </p:nvSpPr>
          <p:spPr>
            <a:xfrm>
              <a:off x="5059080" y="5276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6"/>
            <p:cNvSpPr/>
            <p:nvPr/>
          </p:nvSpPr>
          <p:spPr>
            <a:xfrm>
              <a:off x="4592520" y="5591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7"/>
            <p:cNvSpPr/>
            <p:nvPr/>
          </p:nvSpPr>
          <p:spPr>
            <a:xfrm>
              <a:off x="4089240" y="5921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4743360" y="5237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3768840" y="587844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4273560" y="5548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04920" y="685800"/>
            <a:ext cx="779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hared derived characteristic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oups that share a new, or derived, trait are more closely related to each othe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hared primitive characte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its present in the ancestral group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34" name="Group 33"/>
          <p:cNvGrpSpPr/>
          <p:nvPr/>
        </p:nvGrpSpPr>
        <p:grpSpPr>
          <a:xfrm>
            <a:off x="2440080" y="3036960"/>
            <a:ext cx="4292640" cy="3483000"/>
            <a:chOff x="2440080" y="3036960"/>
            <a:chExt cx="4292640" cy="3483000"/>
          </a:xfrm>
        </p:grpSpPr>
        <p:pic>
          <p:nvPicPr>
            <p:cNvPr id="435" name="Picture 7" descr="_x0015_15_08aCladogram_U.jpg                                          001D11AA_x0007_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2440080" y="3438360"/>
              <a:ext cx="42926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AutoShape 8"/>
            <p:cNvSpPr/>
            <p:nvPr/>
          </p:nvSpPr>
          <p:spPr>
            <a:xfrm flipV="1" rot="16200000">
              <a:off x="4476240" y="2301840"/>
              <a:ext cx="60480" cy="2314440"/>
            </a:xfrm>
            <a:custGeom>
              <a:avLst/>
              <a:gdLst>
                <a:gd name="textAreaLeft" fmla="*/ 0 w 60480"/>
                <a:gd name="textAreaRight" fmla="*/ 21960 w 60480"/>
                <a:gd name="textAreaTop" fmla="*/ 60120 h 2314440"/>
                <a:gd name="textAreaBottom" fmla="*/ 225432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9"/>
            <p:cNvSpPr/>
            <p:nvPr/>
          </p:nvSpPr>
          <p:spPr>
            <a:xfrm>
              <a:off x="3504240" y="303696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x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0"/>
            <p:cNvSpPr/>
            <p:nvPr/>
          </p:nvSpPr>
          <p:spPr>
            <a:xfrm>
              <a:off x="4176720" y="3095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rou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Mammals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2576520" y="31748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grou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Reptiles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2"/>
            <p:cNvSpPr/>
            <p:nvPr/>
          </p:nvSpPr>
          <p:spPr>
            <a:xfrm>
              <a:off x="2612520" y="395604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astern box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3"/>
            <p:cNvSpPr/>
            <p:nvPr/>
          </p:nvSpPr>
          <p:spPr>
            <a:xfrm>
              <a:off x="3377520" y="394812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uck-bille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typu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4075920" y="3956040"/>
              <a:ext cx="90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d kangaro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4824360" y="395604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 America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ave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6"/>
            <p:cNvSpPr/>
            <p:nvPr/>
          </p:nvSpPr>
          <p:spPr>
            <a:xfrm>
              <a:off x="5758560" y="3963960"/>
              <a:ext cx="77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7"/>
            <p:cNvSpPr/>
            <p:nvPr/>
          </p:nvSpPr>
          <p:spPr>
            <a:xfrm>
              <a:off x="5513400" y="4316400"/>
              <a:ext cx="93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ng 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8"/>
            <p:cNvSpPr/>
            <p:nvPr/>
          </p:nvSpPr>
          <p:spPr>
            <a:xfrm>
              <a:off x="5668920" y="450864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9"/>
            <p:cNvSpPr/>
            <p:nvPr/>
          </p:nvSpPr>
          <p:spPr>
            <a:xfrm>
              <a:off x="5292360" y="4692600"/>
              <a:ext cx="133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ir, mammary gland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0"/>
            <p:cNvSpPr/>
            <p:nvPr/>
          </p:nvSpPr>
          <p:spPr>
            <a:xfrm>
              <a:off x="4991040" y="5108400"/>
              <a:ext cx="93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ng 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1"/>
            <p:cNvSpPr/>
            <p:nvPr/>
          </p:nvSpPr>
          <p:spPr>
            <a:xfrm>
              <a:off x="4497480" y="542304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st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2"/>
            <p:cNvSpPr/>
            <p:nvPr/>
          </p:nvSpPr>
          <p:spPr>
            <a:xfrm>
              <a:off x="3997080" y="5729400"/>
              <a:ext cx="133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ir, mammary gland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3"/>
            <p:cNvSpPr/>
            <p:nvPr/>
          </p:nvSpPr>
          <p:spPr>
            <a:xfrm>
              <a:off x="3491640" y="607536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4"/>
            <p:cNvSpPr/>
            <p:nvPr/>
          </p:nvSpPr>
          <p:spPr>
            <a:xfrm>
              <a:off x="5412600" y="488484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"/>
            <p:cNvSpPr/>
            <p:nvPr/>
          </p:nvSpPr>
          <p:spPr>
            <a:xfrm>
              <a:off x="4111920" y="62434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8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5"/>
            <p:cNvSpPr/>
            <p:nvPr/>
          </p:nvSpPr>
          <p:spPr>
            <a:xfrm>
              <a:off x="5059080" y="5276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6"/>
            <p:cNvSpPr/>
            <p:nvPr/>
          </p:nvSpPr>
          <p:spPr>
            <a:xfrm>
              <a:off x="4592520" y="5591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7"/>
            <p:cNvSpPr/>
            <p:nvPr/>
          </p:nvSpPr>
          <p:spPr>
            <a:xfrm>
              <a:off x="4089240" y="5921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0"/>
            <p:cNvSpPr/>
            <p:nvPr/>
          </p:nvSpPr>
          <p:spPr>
            <a:xfrm>
              <a:off x="4743360" y="5237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1"/>
            <p:cNvSpPr/>
            <p:nvPr/>
          </p:nvSpPr>
          <p:spPr>
            <a:xfrm>
              <a:off x="3768840" y="587844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2"/>
            <p:cNvSpPr/>
            <p:nvPr/>
          </p:nvSpPr>
          <p:spPr>
            <a:xfrm>
              <a:off x="4273560" y="5548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Box 28"/>
          <p:cNvSpPr/>
          <p:nvPr/>
        </p:nvSpPr>
        <p:spPr>
          <a:xfrm>
            <a:off x="152280" y="32385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dogram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llustrate patterns of shared characterist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implest (most parsimonious) hypothes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eates the most likely phylogenetic t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62" name="Group 13"/>
          <p:cNvGrpSpPr/>
          <p:nvPr/>
        </p:nvGrpSpPr>
        <p:grpSpPr>
          <a:xfrm>
            <a:off x="469800" y="2165400"/>
            <a:ext cx="7953480" cy="3668760"/>
            <a:chOff x="469800" y="2165400"/>
            <a:chExt cx="7953480" cy="3668760"/>
          </a:xfrm>
        </p:grpSpPr>
        <p:sp>
          <p:nvSpPr>
            <p:cNvPr id="463" name="Text Box 4"/>
            <p:cNvSpPr/>
            <p:nvPr/>
          </p:nvSpPr>
          <p:spPr>
            <a:xfrm>
              <a:off x="3959280" y="55576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8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12"/>
            <p:cNvGrpSpPr/>
            <p:nvPr/>
          </p:nvGrpSpPr>
          <p:grpSpPr>
            <a:xfrm>
              <a:off x="469800" y="2165400"/>
              <a:ext cx="7953480" cy="3319920"/>
              <a:chOff x="469800" y="2165400"/>
              <a:chExt cx="7953480" cy="3319920"/>
            </a:xfrm>
          </p:grpSpPr>
          <p:pic>
            <p:nvPicPr>
              <p:cNvPr id="465" name="Picture 6" descr="_x001c_15_08bReptilePhylogeny_U.jpg                                   001D11AA_x0007_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469800" y="2165400"/>
                <a:ext cx="795348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7"/>
              <p:cNvSpPr/>
              <p:nvPr/>
            </p:nvSpPr>
            <p:spPr>
              <a:xfrm>
                <a:off x="809280" y="3224160"/>
                <a:ext cx="75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izard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8"/>
              <p:cNvSpPr/>
              <p:nvPr/>
            </p:nvSpPr>
            <p:spPr>
              <a:xfrm>
                <a:off x="2732040" y="32097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nake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9"/>
              <p:cNvSpPr/>
              <p:nvPr/>
            </p:nvSpPr>
            <p:spPr>
              <a:xfrm>
                <a:off x="5254200" y="3222360"/>
                <a:ext cx="1023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ocodile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0"/>
              <p:cNvSpPr/>
              <p:nvPr/>
            </p:nvSpPr>
            <p:spPr>
              <a:xfrm>
                <a:off x="7530120" y="3222360"/>
                <a:ext cx="58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ird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1"/>
              <p:cNvSpPr/>
              <p:nvPr/>
            </p:nvSpPr>
            <p:spPr>
              <a:xfrm>
                <a:off x="3360240" y="5178240"/>
                <a:ext cx="231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mmon reptilian ancesto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7"/>
          <p:cNvGrpSpPr/>
          <p:nvPr/>
        </p:nvGrpSpPr>
        <p:grpSpPr>
          <a:xfrm>
            <a:off x="1571760" y="3252960"/>
            <a:ext cx="6208560" cy="3224160"/>
            <a:chOff x="1571760" y="3252960"/>
            <a:chExt cx="6208560" cy="3224160"/>
          </a:xfrm>
        </p:grpSpPr>
        <p:pic>
          <p:nvPicPr>
            <p:cNvPr id="472" name="Picture 7" descr="_x001e_15_09aMolecularPhylogeny_U.jpg                                 00045B47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2573280" y="3252960"/>
              <a:ext cx="5207040" cy="32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9"/>
            <p:cNvSpPr/>
            <p:nvPr/>
          </p:nvSpPr>
          <p:spPr>
            <a:xfrm>
              <a:off x="2829600" y="3443400"/>
              <a:ext cx="63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wn 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0"/>
            <p:cNvSpPr/>
            <p:nvPr/>
          </p:nvSpPr>
          <p:spPr>
            <a:xfrm>
              <a:off x="3548160" y="3392640"/>
              <a:ext cx="38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1"/>
            <p:cNvSpPr/>
            <p:nvPr/>
          </p:nvSpPr>
          <p:spPr>
            <a:xfrm>
              <a:off x="3908160" y="3336840"/>
              <a:ext cx="4413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iati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 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4299480" y="340200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eric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 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3"/>
            <p:cNvSpPr/>
            <p:nvPr/>
          </p:nvSpPr>
          <p:spPr>
            <a:xfrm>
              <a:off x="4927320" y="343044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4"/>
            <p:cNvSpPr/>
            <p:nvPr/>
          </p:nvSpPr>
          <p:spPr>
            <a:xfrm>
              <a:off x="5254920" y="3430440"/>
              <a:ext cx="38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ot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5"/>
            <p:cNvSpPr/>
            <p:nvPr/>
          </p:nvSpPr>
          <p:spPr>
            <a:xfrm>
              <a:off x="5619240" y="3430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ectacle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6"/>
            <p:cNvSpPr/>
            <p:nvPr/>
          </p:nvSpPr>
          <p:spPr>
            <a:xfrm>
              <a:off x="6208560" y="335772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ian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nd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7"/>
            <p:cNvSpPr/>
            <p:nvPr/>
          </p:nvSpPr>
          <p:spPr>
            <a:xfrm>
              <a:off x="6630480" y="344484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accoo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7128000" y="3435480"/>
              <a:ext cx="44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sse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nd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9"/>
            <p:cNvSpPr/>
            <p:nvPr/>
          </p:nvSpPr>
          <p:spPr>
            <a:xfrm>
              <a:off x="2612160" y="4087800"/>
              <a:ext cx="636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eistoc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0"/>
            <p:cNvSpPr/>
            <p:nvPr/>
          </p:nvSpPr>
          <p:spPr>
            <a:xfrm>
              <a:off x="2660400" y="4214880"/>
              <a:ext cx="51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ioc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1"/>
            <p:cNvSpPr/>
            <p:nvPr/>
          </p:nvSpPr>
          <p:spPr>
            <a:xfrm>
              <a:off x="2937600" y="45496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2"/>
            <p:cNvSpPr/>
            <p:nvPr/>
          </p:nvSpPr>
          <p:spPr>
            <a:xfrm>
              <a:off x="2937600" y="481320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3"/>
            <p:cNvSpPr/>
            <p:nvPr/>
          </p:nvSpPr>
          <p:spPr>
            <a:xfrm>
              <a:off x="2937600" y="50734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4"/>
            <p:cNvSpPr/>
            <p:nvPr/>
          </p:nvSpPr>
          <p:spPr>
            <a:xfrm>
              <a:off x="2937600" y="53452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5"/>
            <p:cNvSpPr/>
            <p:nvPr/>
          </p:nvSpPr>
          <p:spPr>
            <a:xfrm>
              <a:off x="2937600" y="559116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6"/>
            <p:cNvSpPr/>
            <p:nvPr/>
          </p:nvSpPr>
          <p:spPr>
            <a:xfrm>
              <a:off x="2937600" y="58546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7"/>
            <p:cNvSpPr/>
            <p:nvPr/>
          </p:nvSpPr>
          <p:spPr>
            <a:xfrm>
              <a:off x="2937600" y="611676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8"/>
            <p:cNvSpPr/>
            <p:nvPr/>
          </p:nvSpPr>
          <p:spPr>
            <a:xfrm rot="16200000">
              <a:off x="2674080" y="574848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igoc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29"/>
            <p:cNvSpPr/>
            <p:nvPr/>
          </p:nvSpPr>
          <p:spPr>
            <a:xfrm rot="16200000">
              <a:off x="2688480" y="471240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oc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30"/>
            <p:cNvSpPr/>
            <p:nvPr/>
          </p:nvSpPr>
          <p:spPr>
            <a:xfrm rot="16200000">
              <a:off x="2323800" y="5209560"/>
              <a:ext cx="982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llions of years ago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1"/>
            <p:cNvSpPr/>
            <p:nvPr/>
          </p:nvSpPr>
          <p:spPr>
            <a:xfrm>
              <a:off x="5620680" y="5292720"/>
              <a:ext cx="483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rsida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2"/>
            <p:cNvSpPr/>
            <p:nvPr/>
          </p:nvSpPr>
          <p:spPr>
            <a:xfrm>
              <a:off x="6696000" y="5567400"/>
              <a:ext cx="66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cyonida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33"/>
            <p:cNvSpPr/>
            <p:nvPr/>
          </p:nvSpPr>
          <p:spPr>
            <a:xfrm>
              <a:off x="5965200" y="6060960"/>
              <a:ext cx="91836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mon ancestr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nivoran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1571760" y="6180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9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 txBox="1"/>
          <p:nvPr/>
        </p:nvSpPr>
        <p:spPr>
          <a:xfrm>
            <a:off x="304920" y="685440"/>
            <a:ext cx="853416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5.9 Molecular biology is a powerful tool in systematic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Molecular systematic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velops phylogenetic hypotheses based on molecular comparis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tudies of ribosomal RNA sequenc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ve shown that humans are more closely related to fungi than to green pla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01" name="Group 12"/>
          <p:cNvGrpSpPr/>
          <p:nvPr/>
        </p:nvGrpSpPr>
        <p:grpSpPr>
          <a:xfrm>
            <a:off x="1116000" y="2357280"/>
            <a:ext cx="7130880" cy="4073760"/>
            <a:chOff x="1116000" y="2357280"/>
            <a:chExt cx="7130880" cy="4073760"/>
          </a:xfrm>
        </p:grpSpPr>
        <p:grpSp>
          <p:nvGrpSpPr>
            <p:cNvPr id="502" name="Group 11"/>
            <p:cNvGrpSpPr/>
            <p:nvPr/>
          </p:nvGrpSpPr>
          <p:grpSpPr>
            <a:xfrm>
              <a:off x="1116000" y="2357280"/>
              <a:ext cx="7130880" cy="3858120"/>
              <a:chOff x="1116000" y="2357280"/>
              <a:chExt cx="7130880" cy="3858120"/>
            </a:xfrm>
          </p:grpSpPr>
          <p:pic>
            <p:nvPicPr>
              <p:cNvPr id="503" name="Picture 6" descr="_x001f_15_09bPhylogHumPlantFungi_U.jpg                                00045B47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455920"/>
                <a:ext cx="7130880" cy="35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Text Box 7"/>
              <p:cNvSpPr/>
              <p:nvPr/>
            </p:nvSpPr>
            <p:spPr>
              <a:xfrm>
                <a:off x="1196280" y="2357280"/>
                <a:ext cx="70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uden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8"/>
              <p:cNvSpPr/>
              <p:nvPr/>
            </p:nvSpPr>
            <p:spPr>
              <a:xfrm>
                <a:off x="4208400" y="2357280"/>
                <a:ext cx="90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ushroom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9"/>
              <p:cNvSpPr/>
              <p:nvPr/>
            </p:nvSpPr>
            <p:spPr>
              <a:xfrm>
                <a:off x="7217280" y="235728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ulip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10"/>
              <p:cNvSpPr/>
              <p:nvPr/>
            </p:nvSpPr>
            <p:spPr>
              <a:xfrm>
                <a:off x="4651200" y="5938920"/>
                <a:ext cx="1428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mmon ancesto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4"/>
            <p:cNvSpPr/>
            <p:nvPr/>
          </p:nvSpPr>
          <p:spPr>
            <a:xfrm>
              <a:off x="4467240" y="6154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9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04920" y="685440"/>
            <a:ext cx="853416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DNA Comparis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olecular comparisons of nucleic acid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ten pose technical challen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reveal the most fundamental similarities or differences between spec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cent fossil find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this notion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1861 Archaeopteryx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6" name="Picture 5" descr="_x001a_15_UN297Microraptor_UP.jpg                                     0050D02E_x0003_203                            BE82D9B5:"/>
          <p:cNvPicPr/>
          <p:nvPr/>
        </p:nvPicPr>
        <p:blipFill>
          <a:blip r:embed="rId1"/>
          <a:stretch/>
        </p:blipFill>
        <p:spPr>
          <a:xfrm>
            <a:off x="1778040" y="2286000"/>
            <a:ext cx="55548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Molecular Clock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3172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me regions of DN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106200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nge at a rate consistent enough to serve as molecular clocks to date evolutionary ev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04920" y="685800"/>
            <a:ext cx="8534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Genome Evolu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Homologous gene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found in many spec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12" name="Group 14"/>
          <p:cNvGrpSpPr/>
          <p:nvPr/>
        </p:nvGrpSpPr>
        <p:grpSpPr>
          <a:xfrm>
            <a:off x="1241280" y="2449440"/>
            <a:ext cx="6602400" cy="3978720"/>
            <a:chOff x="1241280" y="2449440"/>
            <a:chExt cx="6602400" cy="3978720"/>
          </a:xfrm>
        </p:grpSpPr>
        <p:grpSp>
          <p:nvGrpSpPr>
            <p:cNvPr id="513" name="Group 12"/>
            <p:cNvGrpSpPr/>
            <p:nvPr/>
          </p:nvGrpSpPr>
          <p:grpSpPr>
            <a:xfrm>
              <a:off x="1241280" y="2449440"/>
              <a:ext cx="6602400" cy="3978720"/>
              <a:chOff x="1241280" y="2449440"/>
              <a:chExt cx="6602400" cy="3978720"/>
            </a:xfrm>
          </p:grpSpPr>
          <p:pic>
            <p:nvPicPr>
              <p:cNvPr id="514" name="Picture 6" descr="_x001d_15_09cHominoidPhylogeny_U.jpg                                  00045B47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1241280" y="2521800"/>
                <a:ext cx="6602400" cy="375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Text Box 7"/>
              <p:cNvSpPr/>
              <p:nvPr/>
            </p:nvSpPr>
            <p:spPr>
              <a:xfrm>
                <a:off x="1613880" y="2449440"/>
                <a:ext cx="711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uman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8"/>
              <p:cNvSpPr/>
              <p:nvPr/>
            </p:nvSpPr>
            <p:spPr>
              <a:xfrm>
                <a:off x="3145680" y="2460600"/>
                <a:ext cx="1104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himpanzee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9"/>
              <p:cNvSpPr/>
              <p:nvPr/>
            </p:nvSpPr>
            <p:spPr>
              <a:xfrm>
                <a:off x="4863240" y="2460600"/>
                <a:ext cx="656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orilla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10"/>
              <p:cNvSpPr/>
              <p:nvPr/>
            </p:nvSpPr>
            <p:spPr>
              <a:xfrm>
                <a:off x="6361920" y="2460600"/>
                <a:ext cx="95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rangutan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11"/>
              <p:cNvSpPr/>
              <p:nvPr/>
            </p:nvSpPr>
            <p:spPr>
              <a:xfrm>
                <a:off x="4696200" y="6136200"/>
                <a:ext cx="1524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ommon ancestor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4"/>
            <p:cNvSpPr/>
            <p:nvPr/>
          </p:nvSpPr>
          <p:spPr>
            <a:xfrm>
              <a:off x="2822760" y="61498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9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8"/>
          <p:cNvGrpSpPr/>
          <p:nvPr/>
        </p:nvGrpSpPr>
        <p:grpSpPr>
          <a:xfrm>
            <a:off x="2109960" y="3924360"/>
            <a:ext cx="4811400" cy="2592720"/>
            <a:chOff x="2109960" y="3924360"/>
            <a:chExt cx="4811400" cy="2592720"/>
          </a:xfrm>
        </p:grpSpPr>
        <p:grpSp>
          <p:nvGrpSpPr>
            <p:cNvPr id="522" name="Group 27"/>
            <p:cNvGrpSpPr/>
            <p:nvPr/>
          </p:nvGrpSpPr>
          <p:grpSpPr>
            <a:xfrm>
              <a:off x="2109960" y="3924360"/>
              <a:ext cx="4811400" cy="2455920"/>
              <a:chOff x="2109960" y="3924360"/>
              <a:chExt cx="4811400" cy="2455920"/>
            </a:xfrm>
          </p:grpSpPr>
          <p:pic>
            <p:nvPicPr>
              <p:cNvPr id="523" name="Picture 16" descr="_x0018_15_10aFiveKingdoms_U.jpg                                       00045B47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109960" y="3924360"/>
                <a:ext cx="4811400" cy="24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Text Box 17"/>
              <p:cNvSpPr/>
              <p:nvPr/>
            </p:nvSpPr>
            <p:spPr>
              <a:xfrm>
                <a:off x="2337840" y="4782960"/>
                <a:ext cx="569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er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8"/>
              <p:cNvSpPr/>
              <p:nvPr/>
            </p:nvSpPr>
            <p:spPr>
              <a:xfrm>
                <a:off x="3292560" y="47829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tist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9"/>
              <p:cNvSpPr/>
              <p:nvPr/>
            </p:nvSpPr>
            <p:spPr>
              <a:xfrm>
                <a:off x="4240440" y="47829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lantae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20"/>
              <p:cNvSpPr/>
              <p:nvPr/>
            </p:nvSpPr>
            <p:spPr>
              <a:xfrm>
                <a:off x="5237640" y="4782960"/>
                <a:ext cx="46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ungi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21"/>
              <p:cNvSpPr/>
              <p:nvPr/>
            </p:nvSpPr>
            <p:spPr>
              <a:xfrm>
                <a:off x="6099840" y="4782960"/>
                <a:ext cx="621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imalia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22"/>
              <p:cNvSpPr/>
              <p:nvPr/>
            </p:nvSpPr>
            <p:spPr>
              <a:xfrm>
                <a:off x="3147840" y="6012000"/>
                <a:ext cx="71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arliest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rganism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23"/>
              <p:cNvSpPr/>
              <p:nvPr/>
            </p:nvSpPr>
            <p:spPr>
              <a:xfrm>
                <a:off x="6001920" y="5950080"/>
                <a:ext cx="794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karyote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4"/>
              <p:cNvSpPr/>
              <p:nvPr/>
            </p:nvSpPr>
            <p:spPr>
              <a:xfrm>
                <a:off x="6006600" y="6099120"/>
                <a:ext cx="756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ukoryotes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Text Box 4"/>
            <p:cNvSpPr/>
            <p:nvPr/>
          </p:nvSpPr>
          <p:spPr>
            <a:xfrm>
              <a:off x="4080960" y="62406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10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 txBox="1"/>
          <p:nvPr/>
        </p:nvSpPr>
        <p:spPr>
          <a:xfrm>
            <a:off x="304920" y="685800"/>
            <a:ext cx="85341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5.10 Arranging life into kingdoms is a work in progress .   Activ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In the five-kingdom system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karyotes are in the kingdom Mone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ukaryotes (plants, animals, protists, and fungi) are grouped in separate kingdo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04920" y="685440"/>
            <a:ext cx="853416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The domain system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cognizes the prokaryotic domains Bacteria and Archae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Eukaryote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placed in the domain Eukary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35" name="Group 15"/>
          <p:cNvGrpSpPr/>
          <p:nvPr/>
        </p:nvGrpSpPr>
        <p:grpSpPr>
          <a:xfrm>
            <a:off x="2173320" y="3508200"/>
            <a:ext cx="4913280" cy="2973600"/>
            <a:chOff x="2173320" y="3508200"/>
            <a:chExt cx="4913280" cy="2973600"/>
          </a:xfrm>
        </p:grpSpPr>
        <p:grpSp>
          <p:nvGrpSpPr>
            <p:cNvPr id="536" name="Group 14"/>
            <p:cNvGrpSpPr/>
            <p:nvPr/>
          </p:nvGrpSpPr>
          <p:grpSpPr>
            <a:xfrm>
              <a:off x="2173320" y="3508200"/>
              <a:ext cx="4913280" cy="2760840"/>
              <a:chOff x="2173320" y="3508200"/>
              <a:chExt cx="4913280" cy="2760840"/>
            </a:xfrm>
          </p:grpSpPr>
          <p:pic>
            <p:nvPicPr>
              <p:cNvPr id="537" name="Picture 7" descr="_x0018_15_10bThreeDomains_L.jpg                                       00045B47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173320" y="3508200"/>
                <a:ext cx="4913280" cy="27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8"/>
              <p:cNvSpPr/>
              <p:nvPr/>
            </p:nvSpPr>
            <p:spPr>
              <a:xfrm>
                <a:off x="2690640" y="4997520"/>
                <a:ext cx="644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cteria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9"/>
              <p:cNvSpPr/>
              <p:nvPr/>
            </p:nvSpPr>
            <p:spPr>
              <a:xfrm>
                <a:off x="4274280" y="4997520"/>
                <a:ext cx="65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rchaea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10"/>
              <p:cNvSpPr/>
              <p:nvPr/>
            </p:nvSpPr>
            <p:spPr>
              <a:xfrm>
                <a:off x="5923440" y="4997520"/>
                <a:ext cx="64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ukarya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11"/>
              <p:cNvSpPr/>
              <p:nvPr/>
            </p:nvSpPr>
            <p:spPr>
              <a:xfrm>
                <a:off x="3817800" y="5870520"/>
                <a:ext cx="7642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arliest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rganisms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2"/>
              <p:cNvSpPr/>
              <p:nvPr/>
            </p:nvSpPr>
            <p:spPr>
              <a:xfrm>
                <a:off x="6139080" y="5803920"/>
                <a:ext cx="85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karyotes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3"/>
              <p:cNvSpPr/>
              <p:nvPr/>
            </p:nvSpPr>
            <p:spPr>
              <a:xfrm>
                <a:off x="6139080" y="5968800"/>
                <a:ext cx="814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ukoryotes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4"/>
            <p:cNvSpPr/>
            <p:nvPr/>
          </p:nvSpPr>
          <p:spPr>
            <a:xfrm>
              <a:off x="4276080" y="62053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10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28520" y="12600"/>
            <a:ext cx="871704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04560" y="685800"/>
            <a:ext cx="7792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1 The fossil record chronicles macroevolu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acroevolution:  activit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umulative effects of many speciation events over vast tracts of time and encompasses the origin of evolutionary novelties, such as feath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fossil record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s the main events in the history of lif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limpses of long term evolutionary chan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ows science to create geological recor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685800"/>
            <a:ext cx="853416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 the geologic recor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jor transitions in life-forms separate er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aller changes divide eras into peri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geologic recor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2325600" y="1150920"/>
            <a:ext cx="5640480" cy="5310000"/>
            <a:chOff x="2325600" y="1150920"/>
            <a:chExt cx="5640480" cy="5310000"/>
          </a:xfrm>
        </p:grpSpPr>
        <p:sp>
          <p:nvSpPr>
            <p:cNvPr id="232" name="Text Box 4"/>
            <p:cNvSpPr/>
            <p:nvPr/>
          </p:nvSpPr>
          <p:spPr>
            <a:xfrm>
              <a:off x="2325600" y="608472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5.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5" descr="_x0019_15_01GeologicRecord_T.jpg                                      0050D02E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132000" y="1150920"/>
              <a:ext cx="4834080" cy="531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TextBox 5"/>
          <p:cNvSpPr/>
          <p:nvPr/>
        </p:nvSpPr>
        <p:spPr>
          <a:xfrm>
            <a:off x="47520" y="1968480"/>
            <a:ext cx="3216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ldest known fossil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karyotes date back 3.5 billion years ag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karyotes date back 2.2 billion years ag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Table 15.1 to estimate how long prokaryotes inhabited the Earth before Eukaryotes evolv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685440"/>
            <a:ext cx="779760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2 The actual ages of rocks and fossils mark geologic ti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adiometric dating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asures the decay of radioactive isoto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gauge the actual ages of fossils and the rocks in which they are fou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5.3 Continental drift has played a major role in macroevolu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ntinental drif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the slow, incessant movement of Earth’s crustal plates on the hot mant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9" name="Group 22"/>
          <p:cNvGrpSpPr/>
          <p:nvPr/>
        </p:nvGrpSpPr>
        <p:grpSpPr>
          <a:xfrm>
            <a:off x="1760400" y="3516480"/>
            <a:ext cx="5689800" cy="3016440"/>
            <a:chOff x="1760400" y="3516480"/>
            <a:chExt cx="5689800" cy="3016440"/>
          </a:xfrm>
        </p:grpSpPr>
        <p:grpSp>
          <p:nvGrpSpPr>
            <p:cNvPr id="240" name="Group 21"/>
            <p:cNvGrpSpPr/>
            <p:nvPr/>
          </p:nvGrpSpPr>
          <p:grpSpPr>
            <a:xfrm>
              <a:off x="1760400" y="3516480"/>
              <a:ext cx="5689800" cy="2881080"/>
              <a:chOff x="1760400" y="3516480"/>
              <a:chExt cx="5689800" cy="2881080"/>
            </a:xfrm>
          </p:grpSpPr>
          <p:pic>
            <p:nvPicPr>
              <p:cNvPr id="241" name="Picture 6" descr="_x001f_15_03aEarthsCrustalPlates_U.jpg                                0050D02E_x0003_203                            BE644015:"/>
              <p:cNvPicPr/>
              <p:nvPr/>
            </p:nvPicPr>
            <p:blipFill>
              <a:blip r:embed="rId1"/>
              <a:stretch/>
            </p:blipFill>
            <p:spPr>
              <a:xfrm>
                <a:off x="1760400" y="3516480"/>
                <a:ext cx="5689800" cy="28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7"/>
              <p:cNvSpPr/>
              <p:nvPr/>
            </p:nvSpPr>
            <p:spPr>
              <a:xfrm>
                <a:off x="3722040" y="5962680"/>
                <a:ext cx="250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dge of one plate being pushed over edge of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ighboring plate (zones of violent geologic events)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4420080" y="5718240"/>
                <a:ext cx="842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arctic 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5910120" y="531036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ustrali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0"/>
              <p:cNvSpPr/>
              <p:nvPr/>
            </p:nvSpPr>
            <p:spPr>
              <a:xfrm>
                <a:off x="5416560" y="5030640"/>
                <a:ext cx="72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pli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eveloping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1"/>
              <p:cNvSpPr/>
              <p:nvPr/>
            </p:nvSpPr>
            <p:spPr>
              <a:xfrm>
                <a:off x="5305320" y="5091120"/>
                <a:ext cx="176400" cy="3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2"/>
              <p:cNvSpPr/>
              <p:nvPr/>
            </p:nvSpPr>
            <p:spPr>
              <a:xfrm>
                <a:off x="5304960" y="4594320"/>
                <a:ext cx="45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di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"/>
              <p:cNvSpPr/>
              <p:nvPr/>
            </p:nvSpPr>
            <p:spPr>
              <a:xfrm>
                <a:off x="4673880" y="4014720"/>
                <a:ext cx="84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urasian 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887200" y="4068720"/>
                <a:ext cx="612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eric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3368160" y="5041800"/>
                <a:ext cx="612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uth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eric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6"/>
              <p:cNvSpPr/>
              <p:nvPr/>
            </p:nvSpPr>
            <p:spPr>
              <a:xfrm>
                <a:off x="2687400" y="507348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azca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7"/>
              <p:cNvSpPr/>
              <p:nvPr/>
            </p:nvSpPr>
            <p:spPr>
              <a:xfrm>
                <a:off x="2065320" y="4756320"/>
                <a:ext cx="48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cific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8"/>
              <p:cNvSpPr/>
              <p:nvPr/>
            </p:nvSpPr>
            <p:spPr>
              <a:xfrm>
                <a:off x="4284000" y="4527720"/>
                <a:ext cx="531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rabi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9"/>
              <p:cNvSpPr/>
              <p:nvPr/>
            </p:nvSpPr>
            <p:spPr>
              <a:xfrm>
                <a:off x="4323960" y="4865760"/>
                <a:ext cx="49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frica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20"/>
              <p:cNvSpPr/>
              <p:nvPr/>
            </p:nvSpPr>
            <p:spPr>
              <a:xfrm>
                <a:off x="4753080" y="4648320"/>
                <a:ext cx="21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4"/>
            <p:cNvSpPr/>
            <p:nvPr/>
          </p:nvSpPr>
          <p:spPr>
            <a:xfrm>
              <a:off x="4124520" y="6256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5.3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2-11-28T14:12:51Z</cp:lastPrinted>
  <dcterms:modified xsi:type="dcterms:W3CDTF">2010-02-28T19:36:46Z</dcterms:modified>
  <cp:revision>421</cp:revision>
  <dc:subject/>
  <dc:title>Slide 1</dc:title>
</cp:coreProperties>
</file>